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4690FD-A7BF-4701-9AA8-8F84D39A6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ny way to adapt these games for older students to pl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62A245-B8FA-4966-A3E4-D073908DF804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try a few mental math problems. We are going to do some mental math. No paper and pencils. No Calculato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6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going to watch a few videos of students engaged in mental ma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5451E6-EA55-4E1C-916E-39ED7F683745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 + 27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60C580-3AD8-48EA-B5A3-2680AA0D1F66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013C65-730C-4653-8AD8-626A5E937043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31DF06D-F968-40C7-888E-3EB9830AFC40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8679E7C-B3B2-4968-A0EB-DB223C738A16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gallery walk. Read post-its – no com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D5C454-7F82-43CF-9F63-19695B2CC2E6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le discu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03A5B93-7C99-48BB-93F4-30555F0CFBCC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 on what we, as facilitators, did to make this a comfortable learning environ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nything we want to add to our norms chart from yester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21BF94-EAC2-46CF-970F-3A68DCE0ED35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grades K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C96D76-81FA-4A35-9F7C-98E08A311478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s of activities do you think these children were engaged in prior to this less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what you saw in the video connect to what you read about in the progre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298609-9B79-4257-A5A7-F79D580BDDF2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s of activities do you think these children were engaged in prior to this less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2D5C6A-5A55-45F9-B5B0-EF98F1603D07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26A9-5E3A-4AB7-BB32-6B987703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50D0-F7C5-48A6-82F0-F387C4E6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1764-7E02-48BB-A18A-FEFA1653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4C03-0162-4AF8-90EF-4E71C676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2F51-089E-4847-B614-6CBEEFCD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D416-A915-4747-B8B5-F5CC1BA2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C474-D4BB-4AEB-8936-8193E794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3589-E35B-49AF-A156-4EE67706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BDFE-2FE8-4F0A-883D-F260B5B9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2C29-9008-4306-AFC0-4A87F113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C454-3763-42DC-81B8-E07FA523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7B84-3087-4A88-83C3-3AD73DE4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F8F1-59AA-4718-B2F1-52C6A910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5261-7E1F-4941-8403-8F74683E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50FA-63CC-481E-BCAD-F5C5D420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CC93-17FE-40AF-85D3-2A8F90C1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3C62-114C-4CC9-8042-A910D3CB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E0CE31-A437-4B84-8518-94CEDCE2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90C408-B39C-4753-B5AD-5891F4A2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A798D-019E-45F7-ADE3-0C3E98A8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77D7E7-742C-4847-96CB-DFDAB838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FF9B03-9302-4EDF-A3E9-B808BF00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6030-123A-4DC1-8F54-D8DAD35A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95347-746C-4154-A32F-63592FA0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B64BC1-B8CB-4D34-83CD-BB972C54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B05DF5-8D47-4DF4-A394-3623940A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DFE6B6-7938-4C3C-B93C-547D2805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B95056-71DA-4E34-89AB-37E74B36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E15577-4DDE-428D-9068-D57C76A8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825295-E014-4CE2-96EF-0CAAD494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80A0D-E89D-42B1-A614-DA748E9E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E976F-0470-4597-9DF1-EBF80AAE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530EB-797F-4EF2-91B9-AD3DFBC7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DAB5-7F8C-4507-A1DB-8FFC2DF1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8A50B-10BB-4AD7-A8EF-4C615169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BCA81-E3FD-4466-94BE-6431FE0B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58DDB-ADC3-45EC-8821-CBC669F9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2B262-92C6-443C-B771-DA403A3B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4E78C-6D10-4824-B8E2-ACB1F6B9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A6F54-BC10-497F-B999-C3353B4F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CFA41-25DC-4647-9BD0-D4420EBA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A297F-0F9C-4171-B9A6-5EA2FF15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9E5B5-B0C2-4A7D-9DEF-68A726DF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C18DD7-3332-4ED7-BB26-71E1D93C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D399-0A97-4CC4-BE94-E388ACCE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0812BE-BF8D-4EA7-95EC-A6C2D089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31F5CF-97B1-4723-9338-9DA7ADF2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185C0B-DD64-492B-A37B-799EB585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EB3D41-00EA-4F94-B240-60E52C74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E61676-E5B5-45F3-B408-7B070EB7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A6A24A-79B3-48C2-B54E-9AFD2C2B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4DD396-9DC6-4D10-9287-B2A37A4B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4BD0FC-BA25-4029-A203-5616FF3A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36C5E9-A605-42DB-A5B2-EF20D0E0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9B2CF7-DD90-45BE-9900-5ADFEF13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99CA-396B-41F1-B04E-062268E9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DCF46B-EB39-4008-ABEC-EE469463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41F926-2145-4BB3-9DBD-D5D3E6A4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D21F38-400F-4BE1-B1BF-2E7F47A7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16E669-7BCE-4F7D-82CD-EA06BA8B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F1AC69-A557-409A-95DC-22A9BBF5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BDDE3C-B9B4-4401-99E8-3EDDA4A2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9029EE-87EC-47BF-967D-40B5FA33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58F516-0CD9-4905-94F0-825B06E8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FB1F41-B295-488B-BDEB-8916D131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895E31-8B6A-4788-82F6-5A3FFAC1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8B0-194B-4D1C-A50C-EF9C3C28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BDDC0C-0780-44E1-AB68-792637A8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4269A9-B01E-4ED4-8FEE-012B3ACE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0C1366-64C2-4313-B4B0-653419865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DFF322-6A5A-413E-A1DF-F43732C8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E1A0F7-AB69-4E78-B08B-59107B53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7F78AC-FD7D-4E61-ACEC-88682DAF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4A30D0-9729-49E6-BACE-91682E38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15BCC7-68F7-4684-BB32-9E8A89E8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266F41-9505-4DA2-BE4B-7B77A5E2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8A67BD-4361-45EE-BE2A-4EE942F4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AE84-5F43-46F3-9940-BB86AA87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3E6B4C-5B9D-470F-B0DB-1BF90527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723595-22DC-4A3F-A995-F5A3688B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BE8B2B-041C-4EE6-BFBB-1ABBCAEA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E1BF86-6498-4722-9989-A26576B5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3379E5-7B05-4AED-8825-6DEFBC1F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AA0A-6D9F-4828-A630-371E1B2D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0aaf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902c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0aaf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2adb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66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Times New Roman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0aaf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F6AA-35E8-408C-9357-049C29E9848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0aaf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fcbf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fcbf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7fa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0aaf1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7fa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0aaf1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0aaf1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902c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0aaf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2adb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66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Times New Roman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9286-9AEC-47C0-B0BD-7FDAF8A1E58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0aaf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0aaf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902c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0aaf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2adb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4F88-ACD2-41CF-B600-4EC0F810E93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66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Times New Roman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6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0aaf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fcbf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fcbf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7fa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0aaf1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7fa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0aaf1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0aaf1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7c8fe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7c8fe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902c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0aaf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2adb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7c8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c8fe"/>
                </a:solidFill>
                <a:latin typeface="Times New Roman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5075-7B54-40FB-B60C-240BC34F11F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0aaf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0aaf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902c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0aaf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2adb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347B-7282-452B-A44F-7C66AE9C785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66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Times New Roman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0aaf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0aaf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902c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0aaf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2adb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0F82-047D-4A3B-A9A1-75B6DB9EEF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66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Times New Roman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c0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0a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902c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0aaf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2adb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1FCA-FFA1-4601-940E-30261A01882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66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Times New Roman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33360" y="1523520"/>
            <a:ext cx="5638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236626"/>
                </a:solidFill>
                <a:latin typeface="Century Schoolbook"/>
              </a:rPr>
              <a:t>NUMBER SENSE</a:t>
            </a:r>
            <a:br>
              <a:rPr sz="4900"/>
            </a:br>
            <a:r>
              <a:rPr b="1" lang="en-US" sz="4900" spc="-1" strike="noStrike">
                <a:solidFill>
                  <a:srgbClr val="236626"/>
                </a:solidFill>
                <a:latin typeface="Century Schoolbook"/>
              </a:rPr>
              <a:t>K-2</a:t>
            </a:r>
            <a:endParaRPr b="0" lang="en-US" sz="49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59" name="Rectangle 6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1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GAMES TO DEVELOP NUMBER SENSE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990360"/>
            <a:ext cx="746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Play each of the games. After you play each game, answer the following questions: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c002c"/>
                </a:solidFill>
                <a:latin typeface="Century Schoolbook"/>
              </a:rPr>
              <a:t>What concept(s) is the focus of each game?</a:t>
            </a:r>
            <a:endParaRPr b="0" lang="en-US" sz="21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c002c"/>
                </a:solidFill>
                <a:latin typeface="Century Schoolbook"/>
              </a:rPr>
              <a:t>What tools might students use to support to solve the problems?</a:t>
            </a:r>
            <a:endParaRPr b="0" lang="en-US" sz="21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c002c"/>
                </a:solidFill>
                <a:latin typeface="Century Schoolbook"/>
              </a:rPr>
              <a:t>Discuss the strategies students might use. Might they reason with facts they know? Use landmark strategies? Use make-a-ten? Use the 5- or 10-structure? How might you promote the use of more efficient strategies? </a:t>
            </a:r>
            <a:endParaRPr b="0" lang="en-US" sz="21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c002c"/>
                </a:solidFill>
                <a:latin typeface="Century Schoolbook"/>
              </a:rPr>
              <a:t>Is there any way to adapt these games for older students to play?</a:t>
            </a:r>
            <a:endParaRPr b="0" lang="en-US" sz="21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86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457200" y="1143000"/>
          <a:ext cx="7543800" cy="118908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inding Doubles</a:t>
                      </a:r>
                      <a:endParaRPr b="0" lang="en-US" sz="1800" spc="-1" strike="noStrike">
                        <a:solidFill>
                          <a:srgbClr val="0c002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ake 10</a:t>
                      </a:r>
                      <a:endParaRPr b="0" lang="en-US" sz="1800" spc="-1" strike="noStrike">
                        <a:solidFill>
                          <a:srgbClr val="0c002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apture 10</a:t>
                      </a:r>
                      <a:endParaRPr b="0" lang="en-US" sz="1800" spc="-1" strike="noStrike">
                        <a:solidFill>
                          <a:srgbClr val="0c002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002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203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ack 10</a:t>
                      </a:r>
                      <a:endParaRPr b="0" lang="en-US" sz="1800" spc="-1" strike="noStrike">
                        <a:solidFill>
                          <a:srgbClr val="0c002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ombine</a:t>
                      </a:r>
                      <a:endParaRPr b="0" lang="en-US" sz="1800" spc="-1" strike="noStrike">
                        <a:solidFill>
                          <a:srgbClr val="0c002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Bear Tracks</a:t>
                      </a:r>
                      <a:endParaRPr b="0" lang="en-US" sz="1800" spc="-1" strike="noStrike">
                        <a:solidFill>
                          <a:srgbClr val="0c002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002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203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GAMES TO DEVELOP NUMBER SENSE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3316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What evidence will you look for to see if students understand the underlying mathematics of the game?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What evidence will you look for to see if students are using number sense as they play the game?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90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LEARNING PROGRESSION: K-5 NUMBER AND OPERATIONS IN BASE TEN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Read the learning progression for the grade level assigned to you.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Make note of how it is connected to number sense, specifically, composing and decomposing numbers.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93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MENTAL MATH 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When students solve a problem in their heads, they usually use what they know about place value, number relationships, patterns, and visual images to figure it out.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Problem context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Naked numbers 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96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VIDEO: 8 + 6 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219320"/>
            <a:ext cx="746748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What are examples of how the ten-frame model supports student strategies for 8 + 6?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How does the ten-frame encourage students’ understanding of 10 as an important number in computation?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What seems to be a core strategy throughout this number talk?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8 + 6 is considered to be a basic addition fact. What role can number talks play in helping students build basic fact knowledge?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99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VIDEO: 26+27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04920" y="762120"/>
            <a:ext cx="81532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Did any of the students use the strategies we did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ow do the strategies demonstrate that children have built an understanding of place value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In each strategy the students start from the left and work to the right. How does this help build number sense and a sense of reasonableness for the answer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What role does the hundred chart play in helping children understand place value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ow are students using their understanding of number relationships in their strategies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A major focus of kindergarten is to build fluency with small numbers. How is this ideas incorporated in the students’ strategies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Is there any evidence that students were engaged in the Standards for Mathematical Practice? 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02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MENTAL MATH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Given that 48+37=85, what is the answer to 49+36?  Show why this is true using the number line.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05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36626"/>
                </a:solidFill>
                <a:latin typeface="Century Schoolbook"/>
              </a:rPr>
              <a:t>VIDEO: 70-59</a:t>
            </a:r>
            <a:endParaRPr b="0" lang="en-US" sz="27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6840" y="685800"/>
            <a:ext cx="792468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ow does the number line provide support for understanding </a:t>
            </a:r>
            <a:r>
              <a:rPr b="0" i="1" lang="en-US" sz="2400" spc="-1" strike="noStrike">
                <a:solidFill>
                  <a:srgbClr val="0c002c"/>
                </a:solidFill>
                <a:latin typeface="Century Schoolbook"/>
              </a:rPr>
              <a:t>Grant’s  Constant Difference </a:t>
            </a: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trategy? In what other ways could you model this strategy to help students understand why it works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The students share several subtraction strategies: </a:t>
            </a:r>
            <a:r>
              <a:rPr b="0" i="1" lang="en-US" sz="2400" spc="-1" strike="noStrike">
                <a:solidFill>
                  <a:srgbClr val="0c002c"/>
                </a:solidFill>
                <a:latin typeface="Century Schoolbook"/>
              </a:rPr>
              <a:t>Constant Difference, Adding Up, Removing in Chunks, and Adjusting One of the Numbers</a:t>
            </a: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. Discuss how these strategies are similar and different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When Andrew shared his strategy, students were unsure whether 1 should be added or subtracted.  Share your observations about the student and teacher roles during the class discussion.  How could you help students understand his thinking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Is there any evidence that students were engaged in the Standards for Mathematical Practice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08" name="Footer Placeholder 3"/>
          <p:cNvSpPr/>
          <p:nvPr/>
        </p:nvSpPr>
        <p:spPr>
          <a:xfrm rot="5400000">
            <a:off x="6176880" y="3195720"/>
            <a:ext cx="47246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DEVELOPING NUMBER SENSE THROUGH REAL-LIFE SITUATIONS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c002c"/>
                </a:solidFill>
                <a:latin typeface="Century Schoolbook"/>
              </a:rPr>
              <a:t>How does thinking about numbers in real-life situations help develop and/or improve children’s number sense?</a:t>
            </a:r>
            <a:endParaRPr b="0" lang="en-US" sz="40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11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LEARNING FROM EACH OTHER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Read chapter 7, p. 119, in </a:t>
            </a:r>
            <a:r>
              <a:rPr b="0" i="1" lang="en-US" sz="2800" spc="-1" strike="noStrike">
                <a:solidFill>
                  <a:srgbClr val="0c002c"/>
                </a:solidFill>
                <a:latin typeface="Century Schoolbook"/>
              </a:rPr>
              <a:t>Number Sense Routines.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In your small group, discuss the following questions: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ow does math talk support the development of number sense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ow do visual representations support math talk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ow can you help students see mistakes as learning opportunities and how does that support the development of number sense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14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6626"/>
                </a:solidFill>
                <a:latin typeface="Century Schoolbook"/>
              </a:rPr>
              <a:t>REFLECTING ON NUMBER SENSE</a:t>
            </a:r>
            <a:endParaRPr b="0" lang="en-US" sz="32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Go to mscsummercourses2013.wikispaces.com and then to the number sense page.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Respond to the discussion prompt “Visual Representations”.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62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FLUENCY IN PA CORE STANDARDS 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16" name="Footer Placeholder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rcRect l="29439" t="24528" r="28795" b="12500"/>
          <a:stretch/>
        </p:blipFill>
        <p:spPr>
          <a:xfrm>
            <a:off x="838080" y="749160"/>
            <a:ext cx="7086600" cy="60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6626"/>
                </a:solidFill>
                <a:latin typeface="Century Schoolbook"/>
              </a:rPr>
              <a:t>SORTING ACTIVITY</a:t>
            </a:r>
            <a:endParaRPr b="0" lang="en-US" sz="44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19" name="Footer Placeholder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420" name="TextBox 3"/>
          <p:cNvSpPr/>
          <p:nvPr/>
        </p:nvSpPr>
        <p:spPr>
          <a:xfrm>
            <a:off x="914400" y="1981080"/>
            <a:ext cx="6934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002c"/>
                </a:solidFill>
                <a:latin typeface="Arial"/>
              </a:rPr>
              <a:t>Sort the cards into two piles. Be ready to tell us how you sorted.</a:t>
            </a:r>
            <a:endParaRPr b="0" lang="en-US" sz="44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38224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36626"/>
                </a:solidFill>
                <a:latin typeface="Century Schoolbook"/>
              </a:rPr>
              <a:t>WHAT DOES FLUENCY MEAN TO YOU</a:t>
            </a:r>
            <a:endParaRPr b="0" lang="en-US" sz="4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22" name="Footer Placeholder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423" name="TextBox 3"/>
          <p:cNvSpPr/>
          <p:nvPr/>
        </p:nvSpPr>
        <p:spPr>
          <a:xfrm>
            <a:off x="838080" y="182880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c002c"/>
                </a:solidFill>
                <a:latin typeface="Arial"/>
              </a:rPr>
              <a:t>On a large post-it, write down your thoughts about fluency. What is it?</a:t>
            </a:r>
            <a:endParaRPr b="0" lang="en-US" sz="48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36626"/>
                </a:solidFill>
                <a:latin typeface="Century Schoolbook"/>
              </a:rPr>
              <a:t>NUMBER SENSE AND FLUENCY</a:t>
            </a:r>
            <a:endParaRPr b="0" lang="en-US" sz="36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c002c"/>
                </a:solidFill>
                <a:latin typeface="Century Schoolbook"/>
              </a:rPr>
              <a:t>How does number sense support the development of fluency?</a:t>
            </a:r>
            <a:endParaRPr b="0" lang="en-US" sz="40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26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ARTICLE DISCUSSION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c002c"/>
                </a:solidFill>
                <a:latin typeface="Century Schoolbook"/>
              </a:rPr>
              <a:t>Read the article “10 Is the Magic Number.” </a:t>
            </a:r>
            <a:endParaRPr b="0" lang="en-US" sz="40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29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PLANNING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Plan task focusing on one standard and one standard for math practice involving the use of visuals to develop/extend number sense.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26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c002c"/>
                </a:solidFill>
                <a:latin typeface="Century Schoolbook"/>
              </a:rPr>
              <a:t>Include a mental math activity and a game. </a:t>
            </a:r>
            <a:endParaRPr b="0" lang="en-US" sz="29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32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02c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HOMEWORK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80880" y="1066320"/>
            <a:ext cx="74678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Read chapter 5, P. 79 in </a:t>
            </a:r>
            <a:r>
              <a:rPr b="0" i="1" lang="en-US" sz="2800" spc="-1" strike="noStrike">
                <a:solidFill>
                  <a:srgbClr val="0c002c"/>
                </a:solidFill>
                <a:latin typeface="Century Schoolbook"/>
              </a:rPr>
              <a:t>Number Sense Routines.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Read</a:t>
            </a:r>
            <a:r>
              <a:rPr b="0" i="1" lang="en-US" sz="2800" spc="-1" strike="noStrike">
                <a:solidFill>
                  <a:srgbClr val="0c002c"/>
                </a:solidFill>
                <a:latin typeface="Century Schoolbook"/>
              </a:rPr>
              <a:t> Why Children Have Difficulties Mastering the Basic Number Combinations and How to Help Them.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Complete task, if necessary.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Plan task focusing on one standard and one standard for math practice involving the use of visuals to develop/extend number sense.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26760" indent="-267120">
              <a:spcBef>
                <a:spcPts val="700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Include a mental math activity and a game. 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26760" indent="-267120">
              <a:spcBef>
                <a:spcPts val="524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c002c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35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AGENDA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Response to wiki prompt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Sharing of Number Sense Visual Activity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Do these children have number sense? – videos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Games to Develop Number Sense 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Mental Math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Videos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Article discussion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Planning 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65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COMMUNITY OF LEARNERS 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Building a strong and supportive community of learners is essential in making number sense routines beneficial and productive for everyone.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tudents share out thinking 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Work through misunderstandings in front of peers 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ave time to think for themselves 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68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SHARING: NUMBER SENSE VISUAL ACTIVITY 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With your group, share the activity you used.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How did the students respond to the activity?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What challenges, if any, did you encounter?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What role did the visual play in the success or challenge of the activity?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71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LEARNING PROGRESSION: K-5 OPERATIONS AND ALGEBRAIC THINKING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02c"/>
                </a:solidFill>
                <a:latin typeface="Century Schoolbook"/>
              </a:rPr>
              <a:t>Read the learning progression for the grade level assigned to you.</a:t>
            </a:r>
            <a:endParaRPr b="0" lang="en-US" sz="36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Make note of how it is connected to number sense. 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74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228240" y="685800"/>
            <a:ext cx="800100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K1 – dot cards and ten frames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Which students are able to subitize and unitize five and which ones are not? What evidence do you have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ow do the visual representations support students’ in developing number sense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c002c"/>
                </a:solidFill>
                <a:latin typeface="Century Schoolbook"/>
              </a:rPr>
              <a:t>How does the ten-frame with seven dots provide opportunities for students to use five as a unit?</a:t>
            </a:r>
            <a:endParaRPr b="0" lang="en-US" sz="21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ow does the teacher elicit and support students’ uses of different strategies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What evidence did you find of the students engaging in the Standards for Mathematical Practice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ow does what you saw in the video connect to what you read about in the progression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DO THESE STUDENTS HAVE NUMBER SENSE?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77" name="Footer Placeholder 3"/>
          <p:cNvSpPr/>
          <p:nvPr/>
        </p:nvSpPr>
        <p:spPr>
          <a:xfrm>
            <a:off x="8077320" y="1219320"/>
            <a:ext cx="6620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c002c"/>
                </a:solidFill>
                <a:latin typeface="Arial"/>
              </a:rPr>
              <a:t>Math &amp; Science Collaborative </a:t>
            </a:r>
            <a:endParaRPr b="0" lang="en-US" sz="1100" spc="-1" strike="noStrike">
              <a:solidFill>
                <a:srgbClr val="0c002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c002c"/>
                </a:solidFill>
                <a:latin typeface="Arial"/>
              </a:rPr>
              <a:t>at the Allegheny Intermediate Unit</a:t>
            </a:r>
            <a:endParaRPr b="0" lang="en-US" sz="11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04920" y="91440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K2 – rekenreks 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02c"/>
                </a:solidFill>
                <a:latin typeface="Century Schoolbook"/>
              </a:rPr>
              <a:t>How does the warm-up with four and six provide the teacher with information to guide her instructional decisions?</a:t>
            </a:r>
            <a:endParaRPr b="0" lang="en-US" sz="20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02c"/>
                </a:solidFill>
                <a:latin typeface="Century Schoolbook"/>
              </a:rPr>
              <a:t>What examples of one-to-one correspondence and conservation of number surface in the lesson?</a:t>
            </a:r>
            <a:endParaRPr b="0" lang="en-US" sz="20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02c"/>
                </a:solidFill>
                <a:latin typeface="Century Schoolbook"/>
              </a:rPr>
              <a:t>Are there specific number combinations that seem more accessible to students? How does the teacher build on this foundation?</a:t>
            </a:r>
            <a:endParaRPr b="0" lang="en-US" sz="20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02c"/>
                </a:solidFill>
                <a:latin typeface="Century Schoolbook"/>
              </a:rPr>
              <a:t>How does the rekenrek support students’ in developing number sense?</a:t>
            </a:r>
            <a:endParaRPr b="0" lang="en-US" sz="20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02c"/>
                </a:solidFill>
                <a:latin typeface="Century Schoolbook"/>
              </a:rPr>
              <a:t>What evidence did you find of the students engaging in the Standards for Mathematical Practice? </a:t>
            </a:r>
            <a:endParaRPr b="0" lang="en-US" sz="20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02c"/>
                </a:solidFill>
                <a:latin typeface="Century Schoolbook"/>
              </a:rPr>
              <a:t>How does what you saw in the video connect to what you read about in the progression?</a:t>
            </a:r>
            <a:endParaRPr b="0" lang="en-US" sz="20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320"/>
            <a:ext cx="8229600" cy="81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DO THESE STUDENTS HAVE NUMBER SENSE?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80" name="Footer Placeholder 3"/>
          <p:cNvSpPr/>
          <p:nvPr/>
        </p:nvSpPr>
        <p:spPr>
          <a:xfrm>
            <a:off x="8001000" y="2286000"/>
            <a:ext cx="66204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c002c"/>
                </a:solidFill>
                <a:latin typeface="Arial"/>
              </a:rPr>
              <a:t>Math &amp; Science Collaborative </a:t>
            </a:r>
            <a:endParaRPr b="0" lang="en-US" sz="1100" spc="-1" strike="noStrike">
              <a:solidFill>
                <a:srgbClr val="0c002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c002c"/>
                </a:solidFill>
                <a:latin typeface="Arial"/>
              </a:rPr>
              <a:t>at the Allegheny Intermediate Unit</a:t>
            </a:r>
            <a:endParaRPr b="0" lang="en-US" sz="11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IMPLICATIONS FOR TEACHING AND LEARNING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02c"/>
                </a:solidFill>
                <a:latin typeface="Century Schoolbook"/>
              </a:rPr>
              <a:t>What kinds of activities do you think these children were engaged in prior to these lessons?</a:t>
            </a:r>
            <a:endParaRPr b="0" lang="en-US" sz="36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02c"/>
                </a:solidFill>
                <a:latin typeface="Century Schoolbook"/>
              </a:rPr>
              <a:t>What evidence is there that they used these tools prior to the lessons we viewed?</a:t>
            </a:r>
            <a:endParaRPr b="0" lang="en-US" sz="36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83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6T21:17:08Z</dcterms:created>
  <dc:creator>Talking Point Graphics, Inc. (502) 456-9800</dc:creator>
  <dc:description/>
  <dc:language>en-US</dc:language>
  <cp:lastModifiedBy>Fierle, Michael</cp:lastModifiedBy>
  <cp:lastPrinted>2013-10-17T12:30:50Z</cp:lastPrinted>
  <dcterms:modified xsi:type="dcterms:W3CDTF">2014-02-18T18:26:47Z</dcterms:modified>
  <cp:revision>85</cp:revision>
  <dc:subject/>
  <dc:title>BackToSchool</dc:title>
</cp:coreProperties>
</file>